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8C19-B5F7-460C-B88C-BBCC5494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9301-14F4-4EFF-8E95-13EE073A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9D1D-F411-4EC7-A472-7E9CAC72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92D7-C970-46C2-ADF7-6FB0EDBE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7ED5-80F5-4390-945D-02B5593F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6E10-143B-4C78-99A8-94B1024B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3F4E-D0D1-4559-B04B-2E176E3A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169A-9F27-4873-9ECA-13C5577E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71E5-4B25-4E3B-84FF-49E564D8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9CD5-4F68-46D5-BD81-1A7A9B71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77BC-09FE-4C09-A13D-2DD3A2E4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AA5E-5E35-4151-A04D-120ACE25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E928-1D14-4B09-9A14-085C6C25A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3:38:05Z</dcterms:created>
  <dc:creator>User</dc:creator>
  <dc:description/>
  <dc:language>en-US</dc:language>
  <cp:lastModifiedBy>User</cp:lastModifiedBy>
  <dcterms:modified xsi:type="dcterms:W3CDTF">2013-02-01T23:39:40Z</dcterms:modified>
  <cp:revision>1</cp:revision>
  <dc:subject/>
  <dc:title>Slide 1</dc:title>
</cp:coreProperties>
</file>